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84372-6600-4080-A6D2-07034CB2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3146-921D-471A-A4DE-06222F4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0B34-A9CE-4ED5-9B47-405AF3F8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032F-3D32-43FB-A1D6-7175D655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DBD6-7AA2-419D-8ED2-F00FDDF5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BD34-DC71-4D95-88D2-68E8E25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CD82-698D-4D7B-8A5D-A9E590A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01D1-3735-4714-AB71-71FA476A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123A-1893-46A5-A548-CF17733F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BA2B-7F12-411D-9151-95111C1B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42C2-FBF0-4D6A-89E1-BE5D3EE2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307CC-702B-43F1-A15D-14C11250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F0E4-E4A9-4C7E-8C08-2D8C1DE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2BA-C278-432F-AEB9-D7A9D43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C927-5634-4B7D-B924-FB54868F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F96E-4EF0-4D69-BF87-5CBCFDD1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DE1-382F-4CB5-95DB-D2DD6753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14452-DA23-4871-8A0F-94A90D90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652C5-1227-4470-B922-A9103EC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0F44A-7CB1-497F-85B1-F7A26A1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E872C-2623-4209-81BA-E5D2554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CB323E-3131-4269-ABF6-A87DCA83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F017-A303-41E4-8EB8-8CA5D5A7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F8DED-809C-4907-9BE3-09662131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10D5C-AE2E-4439-93C4-50B35ACC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DACED-2DFD-4000-8BBB-59E7151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5C2A8-400C-45B1-8F91-37D21E32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DB788-110C-4A2B-8464-8518D28F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D2715-79B0-4EBE-9A96-45101D4C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D7B3B-06A0-4D1E-8DB1-D5F427B6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A8F1-385A-4D76-8EF0-BE76961C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4B975-B400-4AC8-B001-B145C162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0B71-BDC7-4C8F-8FA5-EE58B4E5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D6B4-59F0-4DCD-96F2-6059C1FA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FB33-EFD2-432E-9564-447F11F4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32AC-E580-4D5B-BB0C-C0A34929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8228-B63A-48E2-9D57-3B42519A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9E480-02FD-4DAD-BA4E-5A74D296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8A332-A496-4663-9D49-D00C4BA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A8DD-EF0F-413D-A7AB-61F39993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5928-520E-469F-980B-13AACAA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D734-A5CB-43BE-9624-C4C489A8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6A951-5A1C-48B5-AEA5-CADFBE29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F127F-DB19-46BA-A1F8-552AECA8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AE7F2-69BD-468E-9340-51E61D11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2EFE8-641F-41FA-8A4A-57CB24C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E2916-912B-4FED-95F1-09652EAA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5BFB6-C578-4D50-A586-F05D2DE6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4310-15F5-4D49-9DBD-9F172F1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65CEE-A287-42F9-864C-260683FE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18D6E-5D60-4B85-8488-CCA752A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5F524-B2E9-479A-A0B1-4CFAECF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3E157-8A10-4E6C-B15E-5FAB81F1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B3EC-E696-4EFE-99E8-9D75CDC2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378C-3A01-4098-9A6D-0D85C3CEF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8B96-CCC5-421A-8570-48A59F33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068A-21DD-45E9-A070-4ECCAC41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41AD-257E-415C-94DA-809FABBD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2DEC0-A7F1-41AE-A0D1-CF0CCCB0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8873-C020-459A-B60F-738F2C44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B38B-3753-4A15-8305-C318045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F1A9C-F492-435A-A5AE-23127AD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60E56-2794-4E7B-AA5A-BF95FE93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5414C-DF59-4DD5-8406-48AF450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AAD0-8A8E-4A8A-8570-D0566798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8BE6-1DE1-4B5A-8BC2-6BB268A7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7FA7-B89A-4BFC-BEEB-EFC2F408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8978B-B324-45B1-A45E-C51D5004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40B19-5DC9-4F28-8727-BD1B5435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E1C0-5722-4B56-9AAA-1EE4EABE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DD1E-11E8-4641-AD5F-1370297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77A7-58F2-46D6-A06E-2A94950F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A6C5-A695-44FC-94E7-3C3309B47E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BB27-0B2E-4981-A126-1292CA3B72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C2FA-040C-4434-AC94-E4E5D74C1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AD69-9A5B-4C30-ABDA-2513E898A7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B89A-E0D3-4EF3-ADCD-9E98873D1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6CD7-0C08-443D-A73D-01EB9E919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three branches of governmen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hree branches of government are the Legislative, Judicial, and Executive branch.  They all can make sure that one doesn't get to powerful with a system called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Checks and  bala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checks and bal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and balances is a system that lets the branches check each other to make sure the other two don’t get to much po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en congress makes a law the president can veto it but congress can override the veto if two thirds of representatives from both the houses agree to the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n they can pass the law as long as supreme court  says its constitu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Demi"/>
              </a:rPr>
              <a:t>The most Extreme method congress uses is to remove the president from office in a process called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Impeach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o do this congress has to the charge the president for a serious cr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senate then makes a trial if two thir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3:12Z</dcterms:created>
  <dc:creator>Kenneth.Perinchief</dc:creator>
  <dc:description/>
  <dc:language>en-US</dc:language>
  <cp:lastModifiedBy>Kenneth.Perinchief</cp:lastModifiedBy>
  <dcterms:modified xsi:type="dcterms:W3CDTF">2008-04-25T17:06:10Z</dcterms:modified>
  <cp:revision>3</cp:revision>
  <dc:subject/>
  <dc:title>The three branches of government</dc:title>
</cp:coreProperties>
</file>